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F09-733E-4DBC-9418-5AFF7A2A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BA9-C1B1-42C2-8667-3C81ADD8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77D-0921-4F1A-85D8-D90FAFF9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AF2-E084-43D7-B1B6-3BAB79F4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AF3-873D-4660-A2E0-1D67FCB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DEA-0D92-4A28-A36F-21295782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A3C-2CB0-493B-919D-917FEDD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14F-71F3-41F7-8478-2DDB7996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4E9-C500-4261-9195-891949E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A2E-E115-4738-A0F6-E700753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EC1-0991-4003-8F54-DA44B20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0FC-B2B9-44F9-9EAB-70FDD916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11DD-29DF-4398-B62A-03238F03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8-29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712800"/>
          <a:ext cx="8785440" cy="59101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2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7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 04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596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в выполнении НИР в 20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4680" y="847800"/>
            <a:ext cx="4735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692280"/>
          <a:ext cx="7991280" cy="577512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сотрудников РГГМУ в симпозиумах, конференциях, семинарах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      - международны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сероссийски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региональные и прочие 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- в зарубежны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ведущих рецензируемых изданиях, входящих в перечень 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сборниках и други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в выста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емии, дипломы, нагр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ивность научных исследований факультетов РГГ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600200"/>
          <a:ext cx="8713800" cy="3844800"/>
        </p:xfrm>
        <a:graphic>
          <a:graphicData uri="http://schemas.openxmlformats.org/drawingml/2006/table">
            <a:tbl>
              <a:tblPr/>
              <a:tblGrid>
                <a:gridCol w="2016360"/>
                <a:gridCol w="1008000"/>
                <a:gridCol w="936720"/>
                <a:gridCol w="1368360"/>
                <a:gridCol w="1368360"/>
                <a:gridCol w="770040"/>
                <a:gridCol w="1245960"/>
              </a:tblGrid>
              <a:tr h="31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научн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в зарубежных изданиях и ведущих журналах  перечня ВА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ки на объекты промышленной собств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детельства о государственной регистрации Роспатенто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Ф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С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 и Г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8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1062000"/>
            <a:ext cx="5925960" cy="536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518184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4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,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учетом грантов и субсидий студентов, аспирантов, молодых ученых и молодых кандидатов нау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77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5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еминары, конференции. совещ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ранты Р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ждународ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5 04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61920" y="1371600"/>
          <a:ext cx="7448760" cy="55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44876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93640"/>
          <a:ext cx="8353440" cy="617688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0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6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3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692280"/>
          <a:ext cx="8244000" cy="5900760"/>
        </p:xfrm>
        <a:graphic>
          <a:graphicData uri="http://schemas.openxmlformats.org/drawingml/2006/table">
            <a:tbl>
              <a:tblPr/>
              <a:tblGrid>
                <a:gridCol w="1469880"/>
                <a:gridCol w="357480"/>
                <a:gridCol w="646560"/>
                <a:gridCol w="286200"/>
                <a:gridCol w="520200"/>
                <a:gridCol w="284760"/>
                <a:gridCol w="558360"/>
                <a:gridCol w="240480"/>
                <a:gridCol w="584640"/>
                <a:gridCol w="144000"/>
                <a:gridCol w="501120"/>
                <a:gridCol w="144000"/>
                <a:gridCol w="466560"/>
                <a:gridCol w="249840"/>
                <a:gridCol w="573840"/>
                <a:gridCol w="429840"/>
                <a:gridCol w="78624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6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96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0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4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7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4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0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6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ститут Арктики и Субантарк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8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 87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45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международных связ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8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4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95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72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7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5 0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1197000"/>
          <a:ext cx="8785440" cy="525924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42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638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4-02-04T05:12:20Z</dcterms:modified>
  <cp:revision>689</cp:revision>
  <dc:subject/>
  <dc:title>Итоговая сессия Ученого совета РГГМУ</dc:title>
</cp:coreProperties>
</file>